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669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B1ED-175C-41CB-9ACB-1726647B1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812D-B87E-4555-8654-F7605A3C0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0D52-E61D-405E-808D-804BEBE65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EC20-D827-426C-B30F-8B3FD1041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92CB7-8F36-4BD2-9948-C87A0FF33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4AE30-A4F3-4A96-86A2-645FCFEF3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D774F-B19C-42A4-A82A-831573EAC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03A25-6BE5-4770-95AF-9C2FB9553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927C5-C265-443A-ACFD-AB7F34FCB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0A9EA-F0A2-432B-84A8-8F40CD6EA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92B92-2F81-47FD-8E77-3BB3B3663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95A3-6B92-4A39-AFC1-B543429A5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8FFDA-B095-4F3E-B23F-2DAD022B5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2686E-3E57-4247-B94C-38713C1A9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D620B-AB30-47E9-AD23-DD94C8376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86A25-375A-42A6-AC74-2C5120349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FE5BD-F9AC-4292-889F-2D0ADE91B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2FD1-1EE7-44B2-A198-F448099B9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6B26-45DE-4F4A-BDC5-36B8D31A0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8AC1-05D0-48E7-A8E7-08989CEAD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2C5F-5CF9-4F0C-BE4E-26FE4DBE9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BEEE-4880-475F-941D-75B2F92CB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FD2D-806B-4E9E-909B-3F6D5A8CB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40E0-175B-475C-A651-EBB854300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4793B-13D7-4068-955D-AF8E9518D014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F4668-5DD2-4DC7-8344-64CDADEC78CE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anne William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JEB Principles of Teaching &amp; Training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287C0-80B1-4657-87B6-EA0210EC6C76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EARNING BY RO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SCOVERY LEARN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KILL ACQUISI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EPT FORM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CAA3-0C98-4D30-9CB5-8F069F1BD3C8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Students learn by repeating facts or activities in a parrot like fashi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The alphabe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Spelling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Multiplication table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Der, Die, Das, Den, Die, Da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4D2D-4DFE-4F3F-8C91-BEB072F22A59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o be effective rote learning must be accompanied by some logic and/or other knowledg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D93C-EE67-4B0F-96C5-32531F42FD7A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KILL ACQUISI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udents learn how to do something - to have the capacity or competence to perform a task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DUCT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CESS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0E35-F32C-4A7E-9E08-7578A8493E69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EPT FORM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udents form concepts through experience - objects, events or ideas that have properties, essential qualities or relationships in common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RETE – book, shape, colour, flow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BSTRACT – poverty, justice, beauty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9343-6871-4F16-A7E5-83A1F29EE5BC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am told and I forge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see and I rememb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do and I understan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aeaea"/>
                </a:solidFill>
                <a:latin typeface="Arial"/>
              </a:rPr>
              <a:t>Chinese proverb.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5B2A-8BFF-4897-8BDD-78869A475ECD}" type="slidenum">
              <a:t>7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08:11:09Z</dcterms:created>
  <dc:creator/>
  <dc:description/>
  <dc:language>en-US</dc:language>
  <cp:lastModifiedBy>Dianne Williams</cp:lastModifiedBy>
  <dcterms:modified xsi:type="dcterms:W3CDTF">2000-04-28T11:45:53Z</dcterms:modified>
  <cp:revision>21</cp:revision>
  <dc:subject/>
  <dc:title/>
</cp:coreProperties>
</file>